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explode.wav" ContentType="audio/x-wav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suction.wav" ContentType="audio/x-wav"/>
  <Override PartName="/ppt/media/image4.gif" ContentType="image/gif"/>
  <Override PartName="/ppt/media/image1.jpeg" ContentType="image/jpeg"/>
  <Override PartName="/ppt/media/projctor.wav" ContentType="audio/x-wav"/>
  <Override PartName="/ppt/media/image17.jpeg" ContentType="image/jpeg"/>
  <Override PartName="/ppt/media/image19.png" ContentType="image/png"/>
  <Override PartName="/ppt/media/image16.jpeg" ContentType="image/jpeg"/>
  <Override PartName="/ppt/media/image3.jpeg" ContentType="image/jpeg"/>
  <Override PartName="/ppt/media/image12.gif" ContentType="image/gif"/>
  <Override PartName="/ppt/media/type.wav" ContentType="audio/x-wav"/>
  <Override PartName="/ppt/media/image14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15.gif" ContentType="image/gif"/>
  <Override PartName="/ppt/media/voltag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20E-7F04-4D71-9959-7910C6B6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7A8-0ACD-4E0C-B878-903F779B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E12-2538-4A5D-B603-8D9C7630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C45-5B07-4DF7-B891-DF331AD3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BA91-DB3F-4136-9DB1-302F26A7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E738-8BAB-4ABB-9380-424013B2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DD41-C49D-49E7-93B8-9F2CD6EF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EA26-2811-4DEA-A802-4D0F853F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7815-5385-4B6F-849D-CCDA0E80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6E75-A052-4593-BCE3-53894C3E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D9F9-CD65-4FE8-A008-FE28E6FE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AA4-3D5C-44B2-9465-113110BB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CD66-8572-484B-982B-062765F3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8C05-3999-4E7B-88B0-B263752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1AAE-82A4-4329-8F7C-20AA59B9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4CAA-BA85-4B58-AAC2-AD21E2D5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D5B4-BBEE-4A21-A298-41C45266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65F-5103-4962-B912-0101D36C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67D-9F71-445B-9E6F-94A9728E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BF7-F4DB-4165-9573-4B2ABA96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709-DA09-4C27-9691-7DB1DC61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6F0-EB2C-4A8E-8470-8925E59E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67E-5D96-45C7-A8D0-358DB817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A7C-B604-42D4-BD18-565C7AB4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FBCE-9084-4DCF-BFF7-382C9B1A9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928F-96A5-407E-A853-DF0C8D765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ighered.mcgraw-hill.com/sites/0072437316/student_view0/chapter6/animations.html" TargetMode="External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r/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vessel"/>
          <p:cNvPicPr/>
          <p:nvPr/>
        </p:nvPicPr>
        <p:blipFill>
          <a:blip r:embed="rId1"/>
          <a:stretch/>
        </p:blipFill>
        <p:spPr>
          <a:xfrm>
            <a:off x="298440" y="3772080"/>
            <a:ext cx="474516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66294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5d7e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mi Head 426"/>
              </a:rPr>
              <a:t>Brainstorm: How can molecules move against their concentration gradient?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400" y="2895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d7e"/>
                </a:solidFill>
                <a:latin typeface="Arial Black"/>
              </a:rPr>
              <a:t>Need to use energ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Oval 9"/>
          <p:cNvSpPr/>
          <p:nvPr/>
        </p:nvSpPr>
        <p:spPr>
          <a:xfrm>
            <a:off x="7086600" y="4800600"/>
            <a:ext cx="1676520" cy="167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1" descr="mad_scientist_swirling_beaker_example"/>
          <p:cNvPicPr/>
          <p:nvPr/>
        </p:nvPicPr>
        <p:blipFill>
          <a:blip r:embed="rId2"/>
          <a:stretch/>
        </p:blipFill>
        <p:spPr>
          <a:xfrm>
            <a:off x="7467480" y="5029200"/>
            <a:ext cx="857520" cy="125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brain_frying_hg_clr"/>
          <p:cNvPicPr/>
          <p:nvPr/>
        </p:nvPicPr>
        <p:blipFill>
          <a:blip r:embed="rId3"/>
          <a:stretch/>
        </p:blipFill>
        <p:spPr>
          <a:xfrm>
            <a:off x="4724280" y="2895480"/>
            <a:ext cx="472464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4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Endocytosis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990360"/>
            <a:ext cx="350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ing material into a cell by the in folding of a membran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8" descr="endoc"/>
          <p:cNvPicPr/>
          <p:nvPr/>
        </p:nvPicPr>
        <p:blipFill>
          <a:blip r:embed="rId1"/>
          <a:stretch/>
        </p:blipFill>
        <p:spPr>
          <a:xfrm>
            <a:off x="4876920" y="990720"/>
            <a:ext cx="3962160" cy="2247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endocytosissmall"/>
          <p:cNvPicPr/>
          <p:nvPr/>
        </p:nvPicPr>
        <p:blipFill>
          <a:blip r:embed="rId2"/>
          <a:stretch/>
        </p:blipFill>
        <p:spPr>
          <a:xfrm>
            <a:off x="4876920" y="29718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2 Types of Endocytoses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hagocytoses-  Solid particles are ingested into the cel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inocytosis – liquids taken into the c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4" descr="phago"/>
          <p:cNvPicPr/>
          <p:nvPr/>
        </p:nvPicPr>
        <p:blipFill>
          <a:blip r:embed="rId1"/>
          <a:stretch/>
        </p:blipFill>
        <p:spPr>
          <a:xfrm>
            <a:off x="4800600" y="10666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Exocytosis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ves materials out of the cel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4" descr="budding"/>
          <p:cNvPicPr/>
          <p:nvPr/>
        </p:nvPicPr>
        <p:blipFill>
          <a:blip r:embed="rId1"/>
          <a:stretch/>
        </p:blipFill>
        <p:spPr>
          <a:xfrm>
            <a:off x="5181480" y="1143000"/>
            <a:ext cx="396252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xocytosissmall"/>
          <p:cNvPicPr/>
          <p:nvPr/>
        </p:nvPicPr>
        <p:blipFill>
          <a:blip r:embed="rId2"/>
          <a:stretch/>
        </p:blipFill>
        <p:spPr>
          <a:xfrm>
            <a:off x="762120" y="266688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Endocyto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4" descr="mad_scientist_thinking_equation_example"/>
          <p:cNvPicPr/>
          <p:nvPr/>
        </p:nvPicPr>
        <p:blipFill>
          <a:blip r:embed="rId3"/>
          <a:stretch/>
        </p:blipFill>
        <p:spPr>
          <a:xfrm>
            <a:off x="304920" y="838080"/>
            <a:ext cx="114300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molecule"/>
          <p:cNvPicPr/>
          <p:nvPr/>
        </p:nvPicPr>
        <p:blipFill>
          <a:blip r:embed="rId4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molecule"/>
          <p:cNvPicPr/>
          <p:nvPr/>
        </p:nvPicPr>
        <p:blipFill>
          <a:blip r:embed="rId1"/>
          <a:stretch/>
        </p:blipFill>
        <p:spPr>
          <a:xfrm>
            <a:off x="2819520" y="4267080"/>
            <a:ext cx="3276360" cy="1843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06768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5d7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mi Head 426"/>
              </a:rPr>
              <a:t>Transitional Page</a:t>
            </a:r>
            <a:endParaRPr b="0" lang="en-US" sz="48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57040" y="56386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3657600" y="1828800"/>
            <a:ext cx="1600200" cy="1600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d_scientist_head_inquisitive_example"/>
          <p:cNvPicPr/>
          <p:nvPr/>
        </p:nvPicPr>
        <p:blipFill>
          <a:blip r:embed="rId2"/>
          <a:stretch/>
        </p:blipFill>
        <p:spPr>
          <a:xfrm>
            <a:off x="3962520" y="2133720"/>
            <a:ext cx="1028520" cy="9712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5200560" y="685800"/>
            <a:ext cx="3124440" cy="1527120"/>
          </a:xfrm>
          <a:prstGeom prst="wedgeRectCallout">
            <a:avLst>
              <a:gd name="adj1" fmla="val -53810"/>
              <a:gd name="adj2" fmla="val 74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257800" y="6858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’t forget to study for your tes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Mad Scient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3" name="type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ction Jackson"/>
              </a:rPr>
              <a:t>Active and Passive Transport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ction Jackson"/>
              </a:rPr>
              <a:t>I Love Sci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@ </a:t>
            </a: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2006-All Rights Reserv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ctor Azul"/>
              </a:rPr>
              <a:t>Iteachbio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Doctor Azul"/>
              </a:rPr>
              <a:t>mac.co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What is the other name for the CMB?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uid Mosaic Mod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5" descr="Fluidmem"/>
          <p:cNvPicPr/>
          <p:nvPr/>
        </p:nvPicPr>
        <p:blipFill>
          <a:blip r:embed="rId1"/>
          <a:stretch/>
        </p:blipFill>
        <p:spPr>
          <a:xfrm>
            <a:off x="3962520" y="1295280"/>
            <a:ext cx="518148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96" name="Picture 7" descr="Diffuse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cell2"/>
          <p:cNvPicPr/>
          <p:nvPr/>
        </p:nvPicPr>
        <p:blipFill>
          <a:blip r:embed="rId1"/>
          <a:stretch/>
        </p:blipFill>
        <p:spPr>
          <a:xfrm>
            <a:off x="228600" y="685800"/>
            <a:ext cx="89154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Passive Transport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es osmosis or diffusion require energ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 them move along a concentration gradi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13" descr="RBCanim1"/>
          <p:cNvPicPr/>
          <p:nvPr/>
        </p:nvPicPr>
        <p:blipFill>
          <a:blip r:embed="rId1"/>
          <a:stretch/>
        </p:blipFill>
        <p:spPr>
          <a:xfrm>
            <a:off x="3809880" y="1219320"/>
            <a:ext cx="5105520" cy="487656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suction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Facilitated Diffusion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http://p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cilitated Diffusion- molecules move down a concentration gradient with the aid of special protein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11426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4" descr="FacilitR2"/>
          <p:cNvPicPr/>
          <p:nvPr/>
        </p:nvPicPr>
        <p:blipFill>
          <a:blip r:embed="rId2"/>
          <a:stretch/>
        </p:blipFill>
        <p:spPr>
          <a:xfrm>
            <a:off x="4572000" y="1143000"/>
            <a:ext cx="4572000" cy="510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7e"/>
                </a:solidFill>
                <a:latin typeface="Hemi Head 426"/>
              </a:rPr>
              <a:t>Active Transport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quires Ener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ves against the concentration gradi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09720" y="11426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7" descr="ActiveR2"/>
          <p:cNvPicPr/>
          <p:nvPr/>
        </p:nvPicPr>
        <p:blipFill>
          <a:blip r:embed="rId1"/>
          <a:stretch/>
        </p:blipFill>
        <p:spPr>
          <a:xfrm>
            <a:off x="4876920" y="12193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20:14:04Z</dcterms:created>
  <dc:creator>Lindenhurst</dc:creator>
  <dc:description/>
  <dc:language>en-US</dc:language>
  <cp:lastModifiedBy>Morgan karas</cp:lastModifiedBy>
  <dcterms:modified xsi:type="dcterms:W3CDTF">2010-12-06T19:20:03Z</dcterms:modified>
  <cp:revision>6</cp:revision>
  <dc:subject/>
  <dc:title>Brainstorm: How can molecules move against their concentration gradient?</dc:title>
</cp:coreProperties>
</file>